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9F9637-9509-4318-8A96-DF1755F826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253AD0-EBA6-4846-94E1-7EBBC364B302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A9A5-2AF0-4B2D-A757-CCF871AC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C176-E5C1-45D8-A1E3-EDF025F3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67B95-5870-4BA7-BE37-50194A05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E374D-035E-45BF-8FEA-004C3E86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448A3-5B4F-449B-9D60-7AF439CC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61909B-2B9B-4D7E-8E3B-4D13B942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2F1D04-33F5-41B1-8888-55911EAE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28986-2D2E-420B-87EE-3C5EEBD5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5DF67-4A7F-45BA-9311-9232097F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2A3E8-D094-4E5C-BF1E-4FE381D7E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A5C52-D451-458B-A443-A258CA048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4231B7-17CA-4643-B838-562BD947A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18DF-BA03-4F71-8C55-67FDF570B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E4C738-F78D-4215-8451-0C3FF494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0330B-6BD4-4AA2-8401-0E2AA2B9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424A3-4386-4A86-B454-0EBB2E5D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17CCDA-F6D2-487C-B936-565D7CF6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8507D8-2AF4-4425-BA6F-62F4F9E4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5E13B7-A11A-459F-8A03-77A74FC3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7DEDCF-8A41-4D74-A881-FC56BDB8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4DA954-E014-45EF-A34A-4FE02C97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ECAA3D-F6D3-4CF7-805A-E6793A61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D32EB-239F-4161-8FD2-E4FB9C77E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CEBA-DF15-43CB-B3C4-55CB027E3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4496FC-798A-423C-9D2A-36A973841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B29B6-DE68-4653-A6A5-63EE2DF66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53789-FF1B-470D-AD56-4540E233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7C101-B866-4241-9EEA-8882CB91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83C4D-3DA9-48B4-AF1E-EBED609C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04347-D41E-45FE-8B51-DC8292EE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6B8A0-CD84-4653-966D-24A1D1B9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E714F-137C-4696-A881-08A744C7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06463-0DA6-46B5-B879-69335DD2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C41E3-0277-4549-BC31-D9E082CC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ACEC-C184-4C3A-A444-08DCC153F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E0EA3-5C70-4670-803A-B159006D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CBB5D-4FEF-411A-817E-4522D5133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D11FF-D3B2-4B96-9CA7-C0132056E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264C-279D-4F1F-B69A-4B8A505D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01C4-74ED-4D38-9273-3C60AADF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3DB6-4556-444F-AFA0-48E64C12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C88A-AE07-4F48-A1B1-73AA7373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58B2-7BC0-4E32-8280-742E5075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181B-356C-472B-84D9-8DE0F650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34E4-E2A5-434A-BA9B-78C44C5B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3E72-EFDB-4EA4-9FB7-A409F9F4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E033-8217-4F9F-B634-33D28B8F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084F-0E6C-4B6E-9696-4E4592FA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4A0D-D5EC-4671-A518-DF6DFA295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5492-AA1C-4EA8-BBBF-7762F1869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92020-E0C2-4991-99F5-7CA2B848F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74ECE-50D5-4EAA-AEE4-E426DEF8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D9179-E0AE-44E9-9ADA-46315BCF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29236-810E-488A-8E90-E7318274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33855-C1B2-4237-953F-EBB209FB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B8C2-C400-4AB8-A79B-C9BD466D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3726E-F8A7-4F9A-BDFA-60207B88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E6736-A16D-4504-963D-68909015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A7D40-F248-447C-9B3B-FCD9081B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C7F9C-85D6-4DB2-8918-D8CF0960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30239-1583-4231-B4EE-232BBBCB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8D9B9-E9E3-4133-8BA0-3D59B5C57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D7941-7229-4535-AAC7-229DF16FD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93236-A0AE-4F6D-AD74-D4593D30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C3674-21B8-41A5-B910-1C34D694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A3FD4-797F-4CD7-9B70-125FB9CA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EE6F-C134-42D0-931D-B7A468A4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26052-3B1C-414F-A2E9-F6C6A0B1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451E5-6D18-4104-AA51-051EEEE5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1327F-7960-41B2-9733-EE8BB93E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AB894-D010-4635-BD44-EAD913C6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43056-6677-4881-91DF-88BBB4EB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18BD8-ABBB-473F-B46D-4DF37FE6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24A4E-9C2F-4C75-90FD-46984476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18C2F-5788-45E8-A84E-CF37DC392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E930A-F130-4D85-8327-D5EFE18F4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F3489-0C07-4A9A-9006-E318F5396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D36E-AD75-4B77-82E7-091B612C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EAF5F-1C3C-4FAA-9569-4BCB91B6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3E129-A7BC-48DD-946F-2CD90614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A0D6A-CE66-4661-AC4F-6568B6B8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D417C-17F8-41C5-A413-A6587650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4EEFC-6085-4461-BB84-925E8108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74551-65FC-4657-B90C-75FB891D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E17A1-6634-4430-BCAF-03969835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1C954-1777-4AD4-9076-9F1D2E4B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29133-416E-464D-9C78-A49A5E08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3AF8E-8A5F-4B65-97F8-F85001408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D38C-CBF6-45D3-85B8-BC4010E5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DC884-E848-4523-B20D-3D689B0D9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399E5-F3CE-49AC-95E1-5C3C1215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B90B5-BA59-45B1-80AA-1AF60BAD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DECCC-250B-4399-88E4-27C64D06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687B3-25D4-46F6-AB55-17DBC503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72AA3-9F28-40A7-8C99-989D8BF1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84C8D-80D7-4A55-868A-0564F1A8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1E895-A484-47DF-A7D6-7FBCCBB2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AB61C-168D-4E13-9B6A-652BA70C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15D50-557E-4774-B0AA-59C8AAF1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7E13-BD62-455F-9C45-4BD2DDD3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2BC18-A7EA-4E35-822D-B1975DDD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009CD-CEE0-4FC4-BE4C-F59474254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D0012-E0F6-4550-B110-A1A7904EB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0EAD3-A8E9-4B8F-B412-37FA00E94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13C04-4AB2-4963-88D4-2C855ADD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68BB8-0E67-4925-BE60-9EC15975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5D694-72C8-49CD-BB18-F980B045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EB0BF-3270-4551-85C9-0C676BC1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17DAE-B59B-4E00-87B7-DA384AE2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DF9A5-368E-46D5-B101-EDA1594D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54C1-D550-40C5-9867-B426A7C8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28BA9-2D6C-4EB9-9E33-656F33B8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B7D58-D86A-48AB-A72C-21D4A21D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C616D-AFCC-4F1C-BF76-22B410C8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A5CA7-F923-4BCA-9573-AEED3BC19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6608D-A9EB-436C-AB56-2165FB6F3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BF9A1-024F-421B-AF3C-EECE224B4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A4618-C77F-4328-AB54-FC23CBA8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5C5AE-9B88-4771-8EB9-51B7CD9E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009D2-49E0-4A8F-89F6-ADACAE2E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E618E-1E54-4B80-B71C-D4B087A9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79F2-3ADE-4820-9785-AC2E5DB0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7A00F-24ED-4380-8E57-4412FDA9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333BB-6117-4EA2-94EC-355F17CC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B7718-A990-46CB-A7E6-B59C4AEE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E0020-EBAC-411A-9BBB-EF172F21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9A9D8-AA94-4219-A04C-DEFF7558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006A7-34FB-46FD-AB47-649BC38DB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B94E6-0AEC-4BBE-8369-E89B66F71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1D50D-8BD6-42C6-8D39-DFF0B485F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FD373-7C63-4CBA-98E9-38DE98D8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3733F-BA00-42D7-99D6-3F528469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1C440E-5F2F-45E0-8CA7-F35FD79EFE46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BFE805-507A-4215-862D-22BC54DBD18D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A879AC-B422-49FB-8BBD-BF4563EAC414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8C8E7F-2EC8-414B-A225-BFA8B2586191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4CA535-A33D-46EA-89D9-E010F8185052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7A1ADD-231B-4E35-A66C-866A7EA81920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348966-E7D2-4F01-8DBE-E594CAFECDB8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E61067-52E1-4A8E-AC72-7FB778991754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CB68EF-39D3-4964-9A5C-3FB3682D7697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F9B1EF-68EF-4CFA-BE11-C20838CB94C6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A76A8A-8094-4111-9D54-0470D93F2518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3889440" cy="129672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900" spc="-1" strike="noStrike">
                <a:solidFill>
                  <a:srgbClr val="9973ff"/>
                </a:solidFill>
                <a:latin typeface="Gill Sans MT"/>
              </a:rPr>
              <a:t>ŽSV IZ INFORMATIKE I RAČUNALSTVA ZADARSKE ŽUPANIJE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773440" y="2420640"/>
            <a:ext cx="3743280" cy="2663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D S UČENICIMA S TEŠKOĆA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RTA KLOBUČAR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G.PAED.SOC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0920" y="804600"/>
            <a:ext cx="74041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10920" y="1989000"/>
            <a:ext cx="74041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ADRŽAJ EDUKACIJE: Operativni sustav Windows 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CILJEVI: Učenik prepoznaje i uz pomoć može opisati neke temeljne programe koji su dio operacijskog sustav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AKTIVNOSTI:  uz pomoć nastavnika prilagođava korisničko sučelje operacijskog sustava svojim potreb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TRATEGIJE PODRŠKE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smjeravati njegovu pozornost na nastavne sadržaje, provjeravati ga individualno, osigurati kratkotrajan odmor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ilagođavanje teksta (uvećanje i pojačanje tiska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ticanja u tekstu (uokviravanje, podcrtavanje)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raščlanjivanje sadržaja na manje cjeli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vaki učenik je poseba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spjeh ovisi o puno čimbenika, posebice o odnosu prema školskim obveza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jeca s istom teškoćom ne moraju imati iste potrebe u nastav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Ocjenjuje se trud!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df2f5"/>
            </a:gs>
            <a:gs pos="100000">
              <a:srgbClr val="f2b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HVALA NA PAŽNJI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2" name="Picture 2" descr="tweet picture"/>
          <p:cNvPicPr/>
          <p:nvPr/>
        </p:nvPicPr>
        <p:blipFill>
          <a:blip r:embed="rId1"/>
          <a:stretch/>
        </p:blipFill>
        <p:spPr>
          <a:xfrm>
            <a:off x="1692360" y="2060640"/>
            <a:ext cx="60483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JČEŠĆE TEŠKOĆ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1719000"/>
            <a:ext cx="905976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čitanja i pisanja (disleksija i disgrafij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pažnje i koncentrac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ntelektu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Emocion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2" name="Picture 9" descr="Slikovni rezultat za kids"/>
          <p:cNvPicPr/>
          <p:nvPr/>
        </p:nvPicPr>
        <p:blipFill>
          <a:blip r:embed="rId1"/>
          <a:stretch/>
        </p:blipFill>
        <p:spPr>
          <a:xfrm>
            <a:off x="3203640" y="3068640"/>
            <a:ext cx="51213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RIJENTACIJSKA LISTA TEŠKOĆA (NN 24/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Skupine vrsta teškoća su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1. Oštećenja vid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2. Oštećenja sluh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3. Oštećenja jezično-govorne-glasovne komunikacije i specifične teškoće u učenju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4. Oštećenja organa i organskih sustav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5. Intelektualne teškoće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6. Poremećaji u ponašanju i oštećenja mentalnog zdravlj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7. Postojanje više vrsta teškoća u psihofizičkom razvoju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ČENICI S TUR SE ŠKOLUJU PO RJEŠENJU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individualizirane postupke (čl. 5.)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li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prilagodbu sadržaja i individualizirane postupke (čl. 6.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(navedeno se odnosi na REDOVITE PROGRAME!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Pravilnik o osnovnoškolskom i srednjoškolskom odgoju i obrazovanju učenika s teškoćama u razvoju (NN 24/15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EŠKOĆE U UČENJU I INFORMAT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roces (slijed) nastavnog sat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Održavanje pažnj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osvećenost detaljima (koraci koji se moraju slijediti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Razumijevanje gradiva (umjesto „štrebanja”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čenje koraka napame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Snalaženje na ekran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Korištenje oprem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VIJEK PROVJERAVATI I PO POTREBI VRATITI NA KORAK KOJI NIJE ODRAĐE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ZRADA IOOP-A: KAKO I ZAŠT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OOP – individualizirani odgojno – obrazovni program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SPECIFIČAN za potrebe djeteta!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e možemo pretpostaviti da isti odgovara svakom djetetu s teškoća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zrađuje ga nastavnik/učitelj uz pomoć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poznaje svoj nastavni predmet, proces učenja i očekivane ishode, a stručni suradnik poznaje potrebe uče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Zamišljen kao program koji djetetu omogućuje praćenje nastave s obzirom na svoje potrebe, a nastavniku olakšava pripremu nastave vrednovan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AKO PISATI IOOP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28560" y="1412640"/>
            <a:ext cx="78868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dobije od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omogućiti više vremena za aktivnost, podijeliti zadatke u više manjih cjelina, usmjeravati pažnju, izbjegavati prepisivanje, preferirati usmenu provjeru znanja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INICIJALNA PROCJENA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: Kako nastavnik vidi učenika u odnosu na predmet?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TEMELJITI NA JAKIM STRANAMA! 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 motiviran je za sve sadržaje, primjenjuje sva naučena pravila, uspješno rješava različite vrste zadataka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ADRŽAJ EDUKACIJE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tema koja se obrađu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rad s u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CILJEVI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koja znanja će usvojiti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samostalno ili uz pomoć učitelja/učiteljice rješavati jednostavne probleme koji se koriste ulaznim i iz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hr-H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39640" y="692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AKTIVNOSTI ZA UČENIKA/UČENICU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npr. učenik uz pomoć slaže jednostavan program služeći se naredbama ulaza, pridruživanja i izlaz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STRATEGIJE PODRŠKE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(prilagodba metoda, sredstava, oblika, postupaka, zahtjeva): koje metode će nastavnik primijeniti kako bi obradio temu u skladu sa specifičnim potrebama tog učenika/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np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osigurati kratkotrajan odm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prilagođavanje teksta (uvećanje i pojačanje tis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isticanja u tekstu (uokviravanje, podcrtavanj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raščlanjivanje sadržaja na manje cjel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MJER ZA IOOP (5.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442520" y="1413000"/>
            <a:ext cx="7016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Opis teškoć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ove teškoće proizlaze iz potreba povezanih sa specifičnim teškoćama čitanja i pisanja te teško održivom pažnjom i koncentracijom.  Učenik ima pozitivan odnos prema šk. obvezama. Pamti slikovite primjere, usporedbe, slike itd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u je potrebno individualno pristupiti. Jasno mu dati do znanja što se očekuje i provjeriti razumije li. Izbjegavati čitanje nepoznatog teksta. Prepisivanje svesti na minimum. Potrebno mu je češće usmjeravati pažnju na zadanu aktivnost. Omogućiti više vremena za zadatak. Složene zadatke potrebno je podijeliti u više manjih. Omogućiti mu kratke predahe više puta tijekom nastave. Poticati ga pohvalom i istaknuti ga u aktivnostima u kojima je uspješa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6:58:23Z</dcterms:created>
  <dc:creator>dsp</dc:creator>
  <dc:description/>
  <dc:language>en-US</dc:language>
  <cp:lastModifiedBy>Marta Klobučar</cp:lastModifiedBy>
  <dcterms:modified xsi:type="dcterms:W3CDTF">2019-12-16T11:14:00Z</dcterms:modified>
  <cp:revision>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